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E40-3D83-4BE7-BE4E-011819DA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9E6-8696-4348-AEEC-2120E1E2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B0B-2CEF-4805-ACCE-561A1DDB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348-4FC1-4951-BFF0-9F3327B7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98E-C909-4402-98A5-9889ABB6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372F-341E-487B-8346-F4E53B52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B8B-7E6A-4941-B20E-6ECB9D68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27C-75EE-4010-B179-E4DB72CB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7614-9887-4CC3-840B-6EA8B7B1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AB6-82B4-43B7-A447-F88A478F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4FF-F9E2-4D5B-A06A-3AA84048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98B-668F-4A2E-8A52-C946A8AC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EDE2-7AEF-4038-B29F-C89F428AE8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Диаграмма 3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497800" cy="568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24000" y="189000"/>
            <a:ext cx="338796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№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8T09:20:29Z</dcterms:created>
  <dc:creator>user</dc:creator>
  <dc:description/>
  <dc:language>en-US</dc:language>
  <cp:lastModifiedBy>User</cp:lastModifiedBy>
  <dcterms:modified xsi:type="dcterms:W3CDTF">2016-12-28T20:43:46Z</dcterms:modified>
  <cp:revision>6</cp:revision>
  <dc:subject/>
  <dc:title>Презентация PowerPoint</dc:title>
</cp:coreProperties>
</file>